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BC666-60CC-47CC-B557-855AE733A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007E1-84A2-49DC-B29F-0595367C4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6E81A-3634-457B-B56B-E304B02B9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2FD50-80CC-479D-A89E-07905AB09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729F9-1A28-4053-B337-4B8DB8C85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96CB3-B4F1-4D9C-8860-AC0A35CED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75094-FA37-443B-9DEC-E1F400C50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3A016-EAB3-4055-AAE7-1DB1AC787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BC982-3C53-4592-A140-3FC0A480A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302DE-2454-4DA3-A795-E162C4207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7C81C-1EDD-41FA-BA19-241BF2FEF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98637-BEF4-4E8C-834F-93728D04B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EB6D2-B8AB-4DCC-B86A-3D337422D7F3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g_name~ 50.tif"/>
          <p:cNvPicPr/>
          <p:nvPr/>
        </p:nvPicPr>
        <p:blipFill>
          <a:blip r:embed="rId1"/>
          <a:stretch/>
        </p:blipFill>
        <p:spPr>
          <a:xfrm>
            <a:off x="585720" y="507960"/>
            <a:ext cx="7959960" cy="636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4T14:15:07Z</dcterms:created>
  <dc:creator>Peter Watson</dc:creator>
  <dc:description/>
  <dc:language>en-US</dc:language>
  <cp:lastModifiedBy>Peter Watson</cp:lastModifiedBy>
  <dcterms:modified xsi:type="dcterms:W3CDTF">2010-10-04T14:15:07Z</dcterms:modified>
  <cp:revision>1</cp:revision>
  <dc:subject/>
  <dc:title>Slide 1</dc:title>
</cp:coreProperties>
</file>